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CAA-3C13-4B81-8316-7020C2DF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B58-4491-4C2F-903A-D31D4FFF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781-FD2B-4C46-8088-E5AD6D76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A935-CBA9-443B-81B7-D94917CA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E9F2-4F8A-4298-BAC5-14B6D5A3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5966-E77E-4D86-971A-6FBFE414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1FE7-A545-47C3-B941-9A324B48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4EF7-FEC2-4DD8-9369-7311D9AA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E23F-E9E0-4B52-8CF6-00CCF230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4E7A-F302-4A3B-82BA-DC434FEF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2756-B0FC-4460-92E7-1D0A084A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52B-72C2-4396-81D0-60CAA6A7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6A65-82D9-4E4F-85AC-B68FE5A1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8EF6-30D8-4F08-892E-DB2D2AE7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42C8-E570-46EE-9DAC-9ED0C131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BF6E-2715-4B5E-B0E0-B5793194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FA4C-BFC5-4599-9975-A5858B39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D3D6-52E7-4254-8A24-A18E51CA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B70-B87A-469E-8460-E5CB80B3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6E71-109B-4BB4-96A8-365606E4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0BF-4FE9-43CE-857D-B0F51F28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04D-E474-4E95-92DB-88C70712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FF8-8605-4C89-BBCC-09F1D1DF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55A-337B-441A-AC25-F157648E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64A6-8174-4163-BB7D-B954DDAA48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0898-7ADF-47F8-93B8-C762C8CA4D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189000"/>
            <a:ext cx="8077320" cy="63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Romance  del rey moro que perdió Alham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(romance fronterizo c. 1482. Es la última guerra de Granad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aseábase el rey m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or la ciudad de Grana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de la puerta de Elv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asta la de Vivarrambla.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artas le fueron veni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ómo Alhama era g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¡Ay de mi Alhama!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s cartas echó en el fue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y al mensajero mata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chó mano a sus cab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y las sus barbas mesa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19280" y="0"/>
            <a:ext cx="4824360" cy="72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peóse de la 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y en un caballo cabalg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or el Zacaín arri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ubido había a la Alhamb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ndó tocar sus trompet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us añafiles de plat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orque lo oyesen los mo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que andaban por el ar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¡Ay de mi Alham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uatro a cuatro, cinco a cinc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juntado se ha gran compañ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lí habló un viejo alfaqu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barba bellida y ca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¿Para qué nos llamas, re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 qué fue nuestra llama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08000" y="620640"/>
            <a:ext cx="5040360" cy="68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Para que sepáis, amig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gran pérdida de Alh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¡Ay de mi Alham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¡Bien se te emplea, buen re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uen rey, bien se te emplear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taste los Bencerraj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que eran la flor de Grana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giste los Tornadiz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 Córdoba la nomb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or eso mereces, re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na pena muy doblad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que te pierdas tú y el re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y que se acabe Gr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¡Ay de mi Alhama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22:44:43Z</dcterms:created>
  <dc:creator> </dc:creator>
  <dc:description/>
  <dc:language>en-US</dc:language>
  <cp:lastModifiedBy>-</cp:lastModifiedBy>
  <dcterms:modified xsi:type="dcterms:W3CDTF">2008-10-06T23:34:48Z</dcterms:modified>
  <cp:revision>8</cp:revision>
  <dc:subject/>
  <dc:title>Diapositiva 1</dc:title>
</cp:coreProperties>
</file>